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76A-92BB-4308-80FB-BBA1BD5F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8F8-038A-4671-961A-1C9A12AA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5BB-FE5C-485F-BF98-CC7DD407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852-F124-4B28-B7CD-1F96CE7A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26250-6463-45E5-B987-665E3945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544F0-A810-480C-A296-FB77DB5C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C3846-6696-4CF9-A580-AA9A592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F5AD-B74B-4648-AE36-9B9EC44E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B97EA-E45D-416E-8714-378F290C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A43E7-6E4A-4F46-8EAF-BD5EB4E0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89E2A-2D2E-4BE0-801D-D471040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803-F171-453E-A390-2CEE4F3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A1D63-CA69-485B-9E86-5021FDED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86A67-E6D2-49A2-A314-3885CB99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63CA-A7D1-463B-A214-0109817D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E06A3-50A2-4962-9704-C06DDC39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18760-E9F1-48EC-A352-F5726239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3D70-24CC-4009-A19B-CAF74D14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CA34-0B5C-4020-A049-52EBE41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36F2-A227-4677-B136-1C26F9FF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A80-0F7B-47B9-939C-515ED288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F06-56E1-4020-AC3A-F62DF18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3D9-E08C-4249-BAB8-1D495E8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3539-9DAC-4D29-8B2E-6A320B3D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B4AA-0302-4A75-8504-8D347F412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594-5408-4988-8E48-4ABB00C95E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Cetacean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t Plan Presentati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ustin Carlo Pun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izelle Joyce Moli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etaceans, otherwise commonly called as whales, are a group of marine mammal’s w/c includes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whales, dolphins,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&amp;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orpoises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They are the mammals best suited to live in a marine or aquatic habitat. They have spindle-shaped bodies (streamlined), forelimbs modified into flippers, w/ horizontal flukes or tails. These mammals are nearly hairless, instead relying on a thick layer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lubber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for insulation. Some species of cetaceans are noted for thei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igh intelligenc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Despite their high intelligence, they are also in danger of dying out in our oceans due to destructive human activities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FQ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sential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can technology be used effectively to support and assess       students learning with regards to cetacean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e whales worth sav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can we learners do to help save these endangered specie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ent Question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roles of whales in our ocea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makes cetaceans an endangered species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sion for Un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creating this unit, we want the student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alue the importance of wha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thought-provoking questions as to how we can help save these endangered animal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journals, documents and articles regarding whales using “English” as the main language tool for conveying the message in saving cetace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Approach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 the students work on this project, th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nect the cause of the current situation of cetaceans to human  activiti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quire advice/information from experts/professionals on the fiel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a short video &amp; written documentation, related to the topi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ent project output to audience for education purpos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will develop higher-order &amp; 2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entury skills in this unit as they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rn that the cetaceans, are important in our oceans, not just for scientific purposes, but also for social purpo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 the sense of responsibility in maintaining our plane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flect on their written document and short video presentation, reading, writing, research, and thinking strategies, and modify and adapt them as necessa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cate with the public using their written document and video presentation about the information gathered regarding cetacean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auging Student Needs Assessme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se CFQs to lear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a cetacean 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What we can do to help the cetace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ssess 21st Century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bility to see the consequences of having these kind of animals extinc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e ability to use their knowledge &amp; skills, to think critically, applying knowledge to certain situations, analyze information, communication &amp; collaboration, solving problems, &amp; making decis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whale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2:05:53Z</dcterms:created>
  <dc:creator>ictlab</dc:creator>
  <dc:description/>
  <dc:language>en-US</dc:language>
  <cp:lastModifiedBy>nave</cp:lastModifiedBy>
  <dcterms:modified xsi:type="dcterms:W3CDTF">2010-09-03T21:49:05Z</dcterms:modified>
  <cp:revision>6</cp:revision>
  <dc:subject/>
  <dc:title>Cetaceans</dc:title>
</cp:coreProperties>
</file>